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9.gif" ContentType="image/gif"/>
  <Override PartName="/ppt/media/image14.gif" ContentType="image/gif"/>
  <Override PartName="/ppt/media/image13.jpeg" ContentType="image/jpeg"/>
  <Override PartName="/ppt/media/image1.jpeg" ContentType="image/jpeg"/>
  <Override PartName="/ppt/media/image2.gif" ContentType="image/gif"/>
  <Override PartName="/ppt/media/image7.jpeg" ContentType="image/jpeg"/>
  <Override PartName="/ppt/media/image3.gif" ContentType="image/gif"/>
  <Override PartName="/ppt/media/Santa%20Is%20Coming%20To%20Town2.wav" ContentType="audio/x-wav"/>
  <Override PartName="/ppt/media/image6.gif" ContentType="image/gif"/>
  <Override PartName="/ppt/media/image11.gif" ContentType="image/gif"/>
  <Override PartName="/ppt/media/image4.jpeg" ContentType="image/jpeg"/>
  <Override PartName="/ppt/media/image8.gif" ContentType="image/gif"/>
  <Override PartName="/ppt/media/image5.gif" ContentType="image/gif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EBBD-EDC0-464C-B7F9-7AF39D77A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EB3E-EE49-4E2D-A7EC-B0D76DF7E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A2AE-79D1-479F-9A46-FE107076E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CF16-A8FA-4FAD-88D9-AEA70585A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706A-580A-43CA-B499-BA6C7771A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9504-C34A-4658-AA07-74D948549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516F-84EB-4934-BFC1-9276352AA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18FC-75A5-4698-A2AD-600147819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19F0-96C6-4C2E-BDA5-9B811A195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6F67-FBA3-4F8C-88C6-7D8F5885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BE17-2C71-453A-9865-CFC29E21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DA96-3713-4716-A6B6-E943ED05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DAD70-B64E-4593-94FE-2AD67A8DF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audio" Target="../media/Santa%20Is%20Coming%20To%20Town2.wav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2843280" y="4941720"/>
            <a:ext cx="2800440" cy="14194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6227640" y="2997360"/>
            <a:ext cx="1471680" cy="1511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684360" y="1413000"/>
            <a:ext cx="760068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anta Claus is coming to tow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6478560" y="5942160"/>
            <a:ext cx="266544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ANCA, SARA P., LUCIA N., JESSICA, ANDREA S., VIC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560" y="5157360"/>
            <a:ext cx="799308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You better watch</a:t>
            </a:r>
            <a:r>
              <a:rPr b="1" lang="en-US" sz="32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out </a:t>
            </a:r>
            <a:br>
              <a:rPr sz="3200"/>
            </a:b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you better not cry, </a:t>
            </a:r>
            <a:br>
              <a:rPr sz="3200"/>
            </a:b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you better not pout I'm telling' you why, </a:t>
            </a:r>
            <a:br>
              <a:rPr sz="3200"/>
            </a:b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Santa Claus is coming to town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461440" cy="1295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051680" y="0"/>
            <a:ext cx="2092320" cy="100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851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He's making a list checking it twice, </a:t>
            </a:r>
            <a:br>
              <a:rPr sz="3200"/>
            </a:b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he's gonna find out who's naughty or nice, </a:t>
            </a:r>
            <a:br>
              <a:rPr sz="3200"/>
            </a:b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Santa Claus is coming to town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435640" y="4076640"/>
            <a:ext cx="1008000" cy="1209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619280" y="189000"/>
            <a:ext cx="5715000" cy="190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324000" y="4365720"/>
            <a:ext cx="533160" cy="50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867280" y="1916280"/>
            <a:ext cx="327672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he sees you when you ´re  sleeping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he know when you ´re awak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000" y="981000"/>
            <a:ext cx="7715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 known if you been bad or good so be good for goodnes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k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23640" y="189000"/>
            <a:ext cx="360972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3600" spc="-1" strike="noStrike">
                <a:solidFill>
                  <a:srgbClr val="003399"/>
                </a:solidFill>
                <a:latin typeface="Arial"/>
              </a:rPr>
              <a:t>you better watch ou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0" lang="es-ES" sz="3600" spc="-1" strike="noStrike">
                <a:solidFill>
                  <a:srgbClr val="003399"/>
                </a:solidFill>
                <a:latin typeface="Arial"/>
              </a:rPr>
              <a:t>you better not c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0" lang="es-ES" sz="3600" spc="-1" strike="noStrike">
                <a:solidFill>
                  <a:srgbClr val="003399"/>
                </a:solidFill>
                <a:latin typeface="Arial"/>
              </a:rPr>
              <a:t>you better not pout i´m tellin you why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0" lang="es-ES" sz="3600" spc="-1" strike="noStrike">
                <a:solidFill>
                  <a:srgbClr val="003399"/>
                </a:solidFill>
                <a:latin typeface="Arial"/>
              </a:rPr>
              <a:t>santa claus is coming to t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084720" y="3860640"/>
            <a:ext cx="2498760" cy="2560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9T15:10:54Z</dcterms:created>
  <dc:creator>pc02</dc:creator>
  <dc:description/>
  <dc:language>en-US</dc:language>
  <cp:lastModifiedBy>pc10</cp:lastModifiedBy>
  <dcterms:modified xsi:type="dcterms:W3CDTF">2011-12-21T10:47:23Z</dcterms:modified>
  <cp:revision>10</cp:revision>
  <dc:subject/>
  <dc:title>Diapositiva 1</dc:title>
</cp:coreProperties>
</file>